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BE6-BF38-4DD2-9C6B-D4EDB2C9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9DB-3595-48F8-9F87-ED4EFFB1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654-8534-440F-9BAC-2B61D1ED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072-4DD7-46BF-BDF5-53A91006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40C-7A93-4716-92FA-3D941DBD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D45A-F008-4E61-8B93-57299947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FB2-D54F-42A0-ADCA-68DE9DC1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F8B-B9BB-454A-8287-575E9C6C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8C7-A0AA-4BB1-95B8-B5E42613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968-67AF-466D-95D6-23A719E2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F91-81BD-4042-BDDE-8DAAA8CA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50A9-A2BE-4617-8787-7FF86F85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0DD5-37CD-4097-93B1-E43E49078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286744"/>
          <p:cNvPicPr/>
          <p:nvPr/>
        </p:nvPicPr>
        <p:blipFill>
          <a:blip r:embed="rId1"/>
          <a:stretch/>
        </p:blipFill>
        <p:spPr>
          <a:xfrm>
            <a:off x="3124080" y="3505320"/>
            <a:ext cx="228600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the law of inerti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ewton’s 1st La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724280" y="1676520"/>
            <a:ext cx="4038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at rest remains at rest and an object in motion will stay in motion unless acted upon by another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 ball will stay at rest unless someone kick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0"/>
            <a:ext cx="8465040" cy="68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rtia:  objects want to keep doing wha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they were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they were moving, they kee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mo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they were hanging out, the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keep hanging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takes a force to get them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Inertia1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380880" y="6094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are in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Inertia2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57200" y="609480"/>
            <a:ext cx="48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gon stops, the blocks want to stay in mo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ewton’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change fo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572000" y="533520"/>
            <a:ext cx="4038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038480" y="1143000"/>
            <a:ext cx="5105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s force, mass, and 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= mass x 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m x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 : Newton or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acceler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the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elephant"/>
          <p:cNvPicPr/>
          <p:nvPr/>
        </p:nvPicPr>
        <p:blipFill>
          <a:blip r:embed="rId1"/>
          <a:stretch/>
        </p:blipFill>
        <p:spPr>
          <a:xfrm>
            <a:off x="0" y="990720"/>
            <a:ext cx="5541840" cy="5562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685800" y="228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force will the man need to use if he wants to make the 1 kg elephant move at 5 m/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ewton’s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800600" y="1295280"/>
            <a:ext cx="40384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4648320" y="1523880"/>
            <a:ext cx="40384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action there is equal and opposit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Billiards, bumper c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shotgun"/>
          <p:cNvPicPr/>
          <p:nvPr/>
        </p:nvPicPr>
        <p:blipFill>
          <a:blip r:embed="rId3"/>
          <a:stretch/>
        </p:blipFill>
        <p:spPr>
          <a:xfrm>
            <a:off x="5867280" y="3952800"/>
            <a:ext cx="226872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3 balloon"/>
          <p:cNvPicPr/>
          <p:nvPr/>
        </p:nvPicPr>
        <p:blipFill>
          <a:blip r:embed="rId4"/>
          <a:stretch/>
        </p:blipFill>
        <p:spPr>
          <a:xfrm>
            <a:off x="457200" y="2971800"/>
            <a:ext cx="30067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22:40:41Z</dcterms:created>
  <dc:creator>Jean Kavanagh</dc:creator>
  <dc:description/>
  <dc:language>en-US</dc:language>
  <cp:lastModifiedBy>Jean Kavanagh</cp:lastModifiedBy>
  <dcterms:modified xsi:type="dcterms:W3CDTF">2009-11-11T20:59:51Z</dcterms:modified>
  <cp:revision>9</cp:revision>
  <dc:subject/>
  <dc:title>Newton’s Laws of Motion</dc:title>
</cp:coreProperties>
</file>